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F73-2391-48A8-A8DF-646D9CF7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3BA-EA17-49C2-956D-28695C33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013E4-AEE1-4551-B8F5-FCAC6FE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28FCA-5767-42CD-AD31-78B454AE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85A35-B216-48C7-9233-16C3EE6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16F0C-7A52-49BC-B987-BC48938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0F7B9-A972-4F12-BCD5-CE0F1F0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D2111-3635-4F42-9FC3-045836C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E381-4821-4120-90F8-7C90012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B6473-5F26-4CBE-95B5-1EE7528C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4442D-B08B-4E09-BB17-D8529E21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1EDEA-9E8B-4F2F-A848-00DEBD24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11E-F45C-41DE-AE7B-1ED2A0DA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0CDF-904B-40AC-979E-FD4A7A8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EB929-523D-4A7E-9703-2C3BE869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6C63C-459C-40C1-98CA-49B179B7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355A3-8850-4736-8BB7-3EF4A93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79A6E-B9EA-4B7B-864D-C969EAAB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DDBDE-7B35-4DE6-9053-18D1A4C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A91B9-A307-48A4-BE7A-E138EE9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D25B3-FC66-48D0-8572-4C84947C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2701C-1A9F-4F52-9564-62034D7C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2ED60-E879-4408-8CBC-D21ED0B9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A21-95BD-424F-AB5F-73BD6DEA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48F61-492E-493E-8C38-9C78DDD0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7FEF-245B-45E6-B32D-C4979397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199CB-7B7F-43A1-BBAE-7BC220C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B1A2C-E50C-40B1-AC3B-3A727EC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B5ED-029D-49FD-B0CC-E247CE9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78D06-DB38-4F48-AC61-4C32B26B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651E5-97D4-41E0-B4F5-93C748F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012E8-4FD8-489F-9A7A-4A02D93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F920-1482-4D0E-9DFA-AE3CEF6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1CDF7-91D6-4F6B-B51C-FFD8BC8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4BC6-BB63-4952-B88B-EC453AC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B0A12-C64B-464B-BD63-68E6463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05ADC-36A8-48D2-973D-121DBC4E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A5F83-8E74-41C3-83E2-BECDFAA4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402EE-5B7F-4AC1-AFCA-750D873E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30574-24ED-4F58-8DD4-DAD5866B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48E6-0F5D-4812-8F45-FE682A3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3BF02-C4C4-4B11-8EE9-8C3AE4C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BE469-6731-4FC0-BA67-C6D79D0F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7DFBE-8029-4435-8C77-488DE381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204F6-6FE4-4E7B-9CD1-4E50DF2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DC9-EF89-4A21-8C73-87EEECC5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4D6DB-B429-4FD0-BB38-87C7D90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B3A08-FF36-4E58-B41D-9F27A9C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0A81-5FB7-46F3-B0C7-47F4695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A2C81-E51E-4A31-B19B-21AD96D4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03CB1-92C2-48D0-82EF-298804F1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B0124-4CE3-4820-96D5-2402B486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AF687-86B6-46B2-9580-C4B9D2F5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7E274-7706-47AC-AB97-40413AF4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CF7FC-73C4-4190-B6F6-2624DAF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52484-720D-4B3E-BDD8-D6174F34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BEE8-ECBE-4D65-873A-6084986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584AB-73F1-4FEE-8047-C35EB1B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135CB-4FEC-4F9E-8031-C2C81EA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E3AA8-E1B6-43AE-B91C-14F2B67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A8C19-40F4-46AF-B1FC-86CEBB4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6AED6-8036-4918-B3AD-75710ED6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D68BF-2F9B-4E76-9621-2044ED2A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BD58E-8188-4552-8B6B-74C6805D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20701-C734-4504-BD9F-550E098F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7D1EB-3D74-4320-8FFC-6FB23BD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1B4F1-A209-4961-8A5E-A839218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4A18-540A-46F5-AF13-4D78301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A7F3A-B8E7-4D5B-A35D-67621F0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925C4-AF6D-47D2-93AB-16F9FD7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AEBB1-44B9-4607-8198-1834BFC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744A1-E7D3-4D7E-93B2-B332B48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56B1F-070E-4E02-BA53-54481D46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BCDCD-5886-4171-BC85-E14BB581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0F3F8-3B15-40FA-B69E-67E0D7E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F360A-1D82-4E6E-A080-FEFCEFE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C69DA-D928-4F72-AEDC-B3E0F18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11EE4-C76C-40D0-B11D-F92ED42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EAC6-3E0A-4699-991B-B4A4ACE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705FB-505D-4502-8E0C-887EDFE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917D5-ED69-4C22-B6BC-CCA9723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29E2D-19FD-46B1-B02E-5B23FD8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2C465-7C87-451F-B2E9-5A50A32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D1271-FAA6-4E9E-A598-E07B602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64688-962C-494C-847D-A7B4AC2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127E1-6B41-46AB-989D-DA602F9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EBE27-F27D-415F-8591-965FF9F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BE75E-A638-405C-B376-990AA0C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1E3CE-C8C2-422B-8369-C1703BFD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915-5A37-4585-868B-13E44AC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D2C9F-15BA-44F8-A262-867490B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7F2FC-DD29-42A1-BB3E-44D331F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E0C6F-A238-4972-8A55-9BF4A13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E1812-CDD1-45D4-AA9C-6A6E4FAF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EA5D8-1C63-4D10-979D-B0CA9341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074A2-6CE0-4E50-A90C-BA96B9D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D5D3C-7397-4F6F-B4F7-0BA73A2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A51A9-A1DE-4241-96D8-1B271FD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7F063-717B-4298-AE83-28FD48A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7ACC1-89FE-4BA0-BC85-DDA9503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EE1-FD1E-48A9-A4D6-FE256B3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07CFF-13FA-4622-B69A-49DC328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24548-C240-465A-8C08-1E80F9D9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6AAF2-A64D-4C76-A678-2157BEBC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01A53-F8B7-4007-8636-0CFE075F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11569-1090-47C9-8287-6928AEE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3AEE4-73DA-44E0-8F34-F1E2FDC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E218E-51AA-4EDA-8750-F3AEEA5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05D90-48FA-4D3A-96C3-04EF512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E2E0E-8C92-4BD6-865B-80432BA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21EF9-5B47-4AEB-A050-868BDDD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753-8307-4417-BE85-4534D4E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6886-74D4-48B6-A22D-AC825FF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513BF-2103-4D90-9E48-ACA0E0BB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94524-1A61-463E-8504-7271D35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B021A-E51F-4491-9B78-6DBB6EF7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EB0C5-8D08-44E5-833E-CA66DFAA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7F2AC-7BC3-4BDC-B765-EC587214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C16ED-F4C7-489C-A05B-6F1136C2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D5751-8743-4A9E-9BC5-3F7E29B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1C346-AD87-40A7-918C-EBFDDC3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1AE470-1AFC-47A0-9CD1-B165CD55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F7CA4-3E7B-49C3-817B-E3BDEF1D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6C2-8DCB-42A5-ABE3-8E40DE5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24199-F7D9-4A6A-AD7D-00526AB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76C72-341E-46BB-B03D-F6D241D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6810B-A259-45BF-8AFD-AB60B744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A225B-6BB2-4F45-B354-1E756CC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6DD6C-8794-44C9-955E-16C8B0C2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5AC3A-0FB9-4F66-A08B-134A63C8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A1BF5-1D17-4D39-A4CA-628B32A0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ECA0C-D2D0-41D4-8CE5-E1815437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4247D-32A9-4A1F-B2A7-0B7E6E0A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7B255-0557-479D-9B25-BD52F36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FF48-3E81-4FF7-8AF8-B37BC8ED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8E812-0749-4EB9-9EC1-30F404C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07E42-620C-4A17-B6DA-6072F47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803F8-52BF-4CC8-8BAC-532BA15E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8D322-2F6A-4EA2-B74E-44005CC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B6C09-145C-4964-BCDC-1DA80BD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31A5B-8B92-4A0C-990F-1427CC1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00D5B-6EA7-4CC6-96ED-4F95ACD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05DBF-A630-4E2A-A53D-85838B0A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ABBB2-B1F0-4C34-A694-83E881D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6325F-AEB2-4141-8620-D1713C95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07B-B2FB-4D3C-83C7-6964944C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0DC7D-A696-4987-B888-E1FCDB2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0B999-9A82-4982-A74E-A927F1A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78837-4FAA-4A5F-BBBA-EF57D10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45DDA-562C-4CE6-8AEC-27963FE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409A2-3D3D-4DCF-A493-3E16704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D3BE5-F7C8-4330-8394-4850606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BFC8C6-19C7-4D48-9238-7A4D947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AD0D4-8256-4750-8F68-6AF10DA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6707E-938E-4034-892D-83E2F84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4FA2D-B228-4B63-B0E4-027EC52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C788-1600-4F51-8434-CABCBC10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68BA7-7A1D-443A-B8F5-B2AB0151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2A3C2-A0C0-4149-AB43-7386068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EA49E-93D6-4101-ADC1-1E9E530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AE524-2F15-4DCF-9CDA-53A24D9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90889-04EA-434D-9F04-8B593D3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0299C-EB8A-4F34-A3FC-894919E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608D1-BEFC-4ABA-B9D4-B97ED9F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8A6BC-9895-491B-8A25-E9C6021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D8C54-346A-4F8A-901E-AA32189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779A7-D084-4E46-BE74-835EEB1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0BB4-5E98-437B-9A45-E1047DDA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CBBAA-0738-48E5-A608-0199655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76656-5DD3-43CF-B73B-76BAE162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CC7C1-3A54-4C7E-B463-4FB083D7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9424-FC65-4878-8A58-1C48DCA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D66B-C0E8-4877-8EEA-3638332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796B-BA88-4D0A-B895-8DB2361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6A5DD-A01B-496F-9F93-4DB2BE0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D75-F0E2-427A-AB05-5EFC9D7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09F1-7559-4CE9-B145-FE700DE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85AE-2594-4543-9C92-F22D3B2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A71B-91BE-4834-ABEB-34E08DC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9B38-A277-44E9-971D-1FEF0B17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345B-0B26-4820-AC86-EC0A9A4B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78CA-3815-410E-B1C5-1E5E12E6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AE31-15E4-448D-ACEE-EB7A0D86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D455-7AC1-4D29-97AA-B7141765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679B-CA58-4D0E-BEC5-4C97311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DEC9-43FF-4CE5-98F8-E307C4A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5F3-3798-4736-9692-5F4A8E9A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147F-2466-4152-AF1E-6AFEC7C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91BB-DAE5-43E2-9995-DC0E66FE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17FE-4F6A-49D9-A17E-BF618ED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44DE-5464-46A6-854B-63D1D2F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C04E-D37D-40A1-9537-0AC9845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4628-6BED-42A6-AE10-67DBA24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9AB5-D36B-4DDD-BAF8-F12900D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4B26-D399-4C63-A8C1-506ABEF4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6745-AD35-4BC0-A0B9-8D843608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43293-47C9-4C17-A01B-7A1DB70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E48-7979-4F41-A422-6E6963C4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920D7-4007-4A7C-9D99-86E408D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070C-28F6-4451-B49C-C3089AAD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A98A-6824-4C3A-B6E7-F870C186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1BEDF-E645-4C5D-91AB-CA08661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A851-858C-4BBD-B297-446307A7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28FF-8713-4DC1-A6B1-EB410B8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0C17-6741-460D-8631-5D82844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D945-F553-4297-8B76-DAFD339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E4A0-D795-4F26-A08A-DEAD903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920FF-559F-4B49-8693-E258D218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A66-0790-4884-A92D-CE0197D0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6210-5991-4985-AE3B-C52F1DB9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0A75-53A0-4AD0-8053-A35EB5D1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5F01-19F1-4A98-A5CC-B20869E6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7211-9B29-4101-B924-CD8DEE6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D92D-E98A-47F8-AEAB-A8FF840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F1D2-8C4E-44CE-B40A-C3FA09A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E70D-29E2-4557-88F8-73F53C8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FCAC-10DE-4959-A9A2-00C2F6C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4DFD-E7D1-430D-BE37-A3CE63E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4E91-F2E3-4A63-B228-CCB4133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CA3-8B4C-488A-9EF6-78C65608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1ED3-2049-4533-A020-A34F5AC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ECF0-C3DD-4D68-A4E1-1EC84AF6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AE01-5A81-4547-BC53-B0626B4D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538F9-6617-48F2-81A1-4DABFFD1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DF63-6EE4-4180-B5A7-6961A564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19D6-1C8E-46A6-8B53-86DF3C1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E4B2-2625-4167-80D6-5C6EFF4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E6DCA-4E3D-4174-BC3B-22DFC7B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3F41-9118-434F-B250-CC15A881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0F38-AE88-4D87-ADEB-8954FA6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5E3-A609-44A2-91A6-C3D6B355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AE12-7A17-4FC7-9104-B37CBE6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85CA-700F-43A7-88BC-9114763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018B-88A7-4B96-985C-0C040AE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2AA8-5B1B-4FAE-8E7E-A7F4F0AE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5145-73BD-4BC4-9EAC-1C4D418D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E2C1-68F1-40B8-B4DF-71D5ABDD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D5F6-CECE-4646-A746-92DA828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869B-FE04-49CE-B104-AD7A263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B5F1-A76B-499E-BCE5-1B07B0DE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0C2A-8327-4A32-8385-7E5046B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84D-30F8-413F-B36E-503DB20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2A28-A43D-4043-A601-9189FB4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524F-A040-4627-808D-2BCD78D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85CB-77BE-4030-A893-9311E25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5D9A6-D4E8-4CCF-A166-5CB6E29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A41E4-50F7-49E0-B40D-1ED7446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7DB0D-4396-4419-BBCD-6C419D1C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A39B-E58F-4E3E-A8A8-C56EC09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48080-DBD0-45D1-8E3D-6CBC4D09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E66CA-035C-4213-A04D-BFB91FF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BC600-A7B2-49DF-9DA1-1B009F7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718-92BB-4337-94BC-8A1AAE67C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9E7-014A-4963-BBB4-BD7F0F5D1E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236-A96D-4204-9D57-986C2057B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FEBF-BF03-4AE7-9319-5F6133B97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F58-4677-4E3F-8BE3-2BCC3E272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DB2D-CAED-4B7B-A86E-A5FDF95AC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64BB-4885-4123-8E76-2ABE77C15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F9FA-48E8-4CD8-89E8-02EBD3AC4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C7F-A630-4FBD-8B2E-284F8A359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3CF-5CB4-41E9-A23D-955FF5E87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F16-194D-4F2E-A927-D52538C5B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EFCB-B5D0-4262-A1C3-58BBF7F30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6FE-8DB3-4FA3-9326-BE0137FF9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D44-6A8C-413F-AC83-0A3371B36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8AD-948F-495E-B472-A09B87739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7911-8ECB-43A3-AE3D-04F41FBA05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07E-C7AB-4601-96F5-663034352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48A1-749E-4E11-A869-5B33604BA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4F4-B6A8-4F0F-A654-DB8C1D65B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E1B-3FC0-4E8F-9F7D-F309FE875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7ED-47EE-48C9-AB23-9E975FCD6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985-AB12-4A16-8DA2-CD9E43CF8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305-D3E7-4CF0-AE59-457852D31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A2D2-5379-4EB9-8A2F-370EBB4FC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8D2-0656-4758-B397-955A1BC27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7F7-6075-4E26-AE94-F13C87329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7E5-BBCB-4911-8C4B-14D4364F0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3C2-1CDA-47BF-850A-94386606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BA6-2F9A-4A97-BB4A-8CC10D6F7E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C2EB-01CF-4FE7-9DF2-E1D50C56E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7F7-266F-4E58-9DD1-202B82D5A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E1D-80F7-4D75-A901-5DBF86122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F71-D8F6-4B14-97AA-B429A9A3FE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545-AE9E-4125-BF30-7E9A3F8C41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9655-EC08-4ACE-89DE-69B5EBDDF0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520-21AF-4BA7-89A7-45F1145651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D58-5FB5-4DEA-A442-E0B3CCE9B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25B-61C1-45B1-AF77-FC773F3E1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BC4-263E-4517-8772-2D0B19199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D203-D575-4921-94F9-5722015A6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24080" y="3110040"/>
            <a:ext cx="46958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23720" y="2181240"/>
            <a:ext cx="8296560" cy="2495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750960" y="221472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43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66760" y="928800"/>
            <a:ext cx="8610480" cy="57150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54200" y="566424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750960" y="618336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95200" y="1062000"/>
            <a:ext cx="8553600" cy="4734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750960" y="1060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750960" y="15001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50960" y="20397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750960" y="29797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750960" y="33861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750960" y="3855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8"/>
          <a:stretch/>
        </p:blipFill>
        <p:spPr>
          <a:xfrm>
            <a:off x="750960" y="481500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9"/>
          <a:stretch/>
        </p:blipFill>
        <p:spPr>
          <a:xfrm>
            <a:off x="750960" y="5337000"/>
            <a:ext cx="542880" cy="4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281160" y="857160"/>
            <a:ext cx="8581680" cy="58579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1714680" y="3960720"/>
            <a:ext cx="128556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4071960" y="5878440"/>
            <a:ext cx="15717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72320" cy="1409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2" descr=""/>
          <p:cNvPicPr/>
          <p:nvPr/>
        </p:nvPicPr>
        <p:blipFill>
          <a:blip r:embed="rId2"/>
          <a:stretch/>
        </p:blipFill>
        <p:spPr>
          <a:xfrm>
            <a:off x="388800" y="2309760"/>
            <a:ext cx="8439120" cy="4334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6215040" y="785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4714920" y="12859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6143760" y="2857680"/>
            <a:ext cx="192852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6"/>
          <a:stretch/>
        </p:blipFill>
        <p:spPr>
          <a:xfrm>
            <a:off x="1071720" y="5214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7"/>
          <a:stretch/>
        </p:blipFill>
        <p:spPr>
          <a:xfrm>
            <a:off x="2428920" y="571500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8"/>
          <a:stretch/>
        </p:blipFill>
        <p:spPr>
          <a:xfrm>
            <a:off x="2071800" y="621504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391600" cy="5181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1857240" y="26240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3"/>
          <a:stretch/>
        </p:blipFill>
        <p:spPr>
          <a:xfrm>
            <a:off x="3164040" y="408132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43880" cy="5724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719280" y="14288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719280" y="428472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429760" cy="533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709560" y="12142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714240" y="312264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0:53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